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6E152-2DDD-4129-A554-7FD5B702EA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58BD5-00B0-42DC-9705-668BF26DAD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C85A4-2890-4771-9B29-88ABC98768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DCD96-8F15-479C-98AE-0994ED703A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76AD7-C6F1-43F7-B3C1-28EC6E2E32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B78AF-87CD-49C2-9707-8020235F84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72484-7A8E-4A21-AB75-9118B64F8F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E0381-EEAB-4ABC-B68A-3CDE1F1CB1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77ECB-B797-493A-A336-E03A92F745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4E089-3555-4F40-B4C6-B4140B3289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7964E-20DC-433B-91DC-DB915CF5D7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886CB-6B37-4C22-87C1-656435F559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E3D2-B3DA-4799-895D-246879C9CC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4B81-3D54-409A-80DA-3B77B943F4D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7720" y="26665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800" spc="-1" strike="noStrike">
                <a:solidFill>
                  <a:srgbClr val="000000"/>
                </a:solidFill>
                <a:latin typeface="Arial"/>
              </a:rPr>
              <a:t>Pursuing Broader Persp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Proportional Reason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Breakout #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solidate:  Feedback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ink about a question you have from tod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’m wondering about….”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”I’m confused about…..”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would like to learn more about…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 it on a sticky note, and attach it to your gly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2009-A7A7-47BB-AAFA-8D0998E495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3ADD-B9D0-40B8-B00B-F93807F07D1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etting to know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dentify key proportional reasoning concepts in a sample grade 9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actice “responding to students in the moment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CC7F-1782-4708-B7F1-3941754CA6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376C-1F2A-435C-80B7-31DC2F297B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68D6-28B3-41D2-BC74-8C1C8D4592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E8D3-C391-4A0E-9AA5-0866EF92F51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80880" y="106668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1149480" indent="-4813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nds On:  Who are We?  ~ 1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49480" indent="-4813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49480" indent="-481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stickers on chart paper to create bar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9480" indent="-4813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9480" indent="-481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9480" indent="-481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sonal Glyph -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structions on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9480" indent="-4813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9480" indent="-481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2743200"/>
            <a:ext cx="228600" cy="2286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3048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2666880"/>
            <a:ext cx="51818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urses you have experience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ne or two courses your interested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xperienced AND interes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3352680"/>
            <a:ext cx="228600" cy="2286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3352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nds On: Personal Goals ~ 20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flect on the Ques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Why did you come to Math CAMPPP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hare with your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llustrate your groups’ responses on chart paper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7395-D3D6-4F7B-BF18-136C03814B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AA70-4032-4732-825D-FB6EC1A25E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029200" y="990720"/>
            <a:ext cx="3429000" cy="7617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4800600"/>
            <a:ext cx="3200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8088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7000"/>
          </a:bodyPr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ade 9 Math Problem – Keepin’ Ta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 student council collects aluminium pop tabs to raise money to purchase a wheel chair. A company buys the pop tabs for $0.88 per kil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f 1267 pop tabs have a mass of one pound, how many pop tabs are needed to purchase a wheelchair worth $150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hat important proportional reasoning concepts do you see in this problem from a grade 9 content perspect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Show your work.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Hi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1 kilogram = 2.2 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0041-F80E-4683-833C-C8537D55ECD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4A3F-EABF-4FB5-96B5-8288BCF7AE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4120" y="1143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cc0099"/>
                </a:solidFill>
                <a:latin typeface="Arial"/>
              </a:rPr>
              <a:t>Solve with a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943240" y="1523880"/>
            <a:ext cx="60948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raft a ‘student solution’.  Think about possible student  approaches/misconceptions as you create your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62EE-52EC-4227-A091-525D4F6691F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0E9E-E4C6-4DD4-B2B3-F15D2B233C1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4120" y="990720"/>
            <a:ext cx="2666880" cy="990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With your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nd another p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ne pair takes the role of the student.  Role play your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other pair takes the role of the teacher.  Practice responding to students in the mo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verse r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A1F0-BEEA-4D3C-B8C0-9A771B4526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8903-BF21-4CD8-B005-801B77EAA90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Proportional Reason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88000"/>
          </a:bodyPr>
          <a:p>
            <a:pPr marL="571320" indent="-53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320" indent="-53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 Organizer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320" indent="-53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1320" indent="-53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an organizer to help you record and reflect on your personal  learning jour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320" indent="-53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69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Perspective Pass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6720" indent="-40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-book to record interesting 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69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69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Math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6720" indent="-40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ic organizer to illustrate your travels and the pathways between your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5BF8-285A-4DB3-873E-C673E0B313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5CB2-BFF2-4797-8A73-2ACE1FE7F0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Proportional Reason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solidate: Personal Reflection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flect on your learning today, and record your thou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interesting  ideas and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questions, things to follow up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B749-C8EF-4621-AFD0-EB401EDC04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A98F-2C94-4EB2-B947-731A82949B6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Cheryl</cp:lastModifiedBy>
  <dcterms:modified xsi:type="dcterms:W3CDTF">2011-08-07T18:53:25Z</dcterms:modified>
  <cp:revision>23</cp:revision>
  <dc:subject/>
  <dc:title>&lt;Title&gt;</dc:title>
</cp:coreProperties>
</file>